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4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dt" idx="1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move the slide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ftr" idx="1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 type="sldNum" idx="1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CE1-2E41-4DC1-A419-34106FC2FD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2349-4E32-4BEE-BF72-6526EE321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0062-D671-4163-850E-111A869BB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анимацию на печат маш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,  требующие особого внимания в организации подготовки к проведению ГИА-9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и разъяснительная работа с участниками ГИА-9 и их родителями (законными представителям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тавки участников ОГЭ при сдаче экзаменов по выбору в ПП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оснащение ППЭ по физике, информатике и ИКТ, иностранным язы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 контроля со стороны Рособрнадзора за организацией  и проведением ОГ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http://fipi.ru/ ; oge-i-gve-9/g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организаторов, включая    руководителей ППЭ  и работы по привлечению  общественных наблюд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общая задача – обеспечить подготовку к ГИА на высоком уровне и выполнить установленные требования к прозрачности и честности проведения экзамена в полной м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353-1BDA-4C2A-A59E-14C0A2A6E1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06AB-706C-4A38-80FE-A271363D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598D-EA6C-4B6A-A9E4-AC2017F0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3304-C379-4435-A42D-ABF8A7B2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E6576-5A40-4040-B4E4-D0A27FC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5EB7-48BA-41D1-B249-E45BF2A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E9EAC-A362-45C5-BB91-1218C44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AAA6-8CCD-4490-9113-FA9D31F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E081F-7B54-457C-B143-0DAC8F91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2069-11E2-4232-9014-2A802E24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9A54-EA47-48CE-92E9-63143E8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62933-F671-4E79-B002-E2A43262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AFDC-4F41-4F39-819E-5FBA39E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4888E-4DAF-4BA4-8A55-D9F76D6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9B7B-B73B-4CE0-A37F-840DDB0F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99FDF-88A9-429A-9436-BE28878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C24E9-0B05-4669-A1E3-BD60BC1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D6484-3FDB-4A12-8981-C088AB4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F6F5-F91C-45F0-B2F4-B59E6F1A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029D-0AE6-4D71-82DC-B5EF312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96F10-9D2B-4A9E-9964-464436D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8B409-6070-446A-B549-D63F6C19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ABADC-3874-4D99-AC14-1515DA71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13EC3-048D-4DC9-8357-6ACF00E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EFEC9-B7DE-4D5D-8B3A-075BE07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A4BD2-3877-4C98-978C-E08B1A58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D2BD-3720-4F39-BBCE-9DEC347C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D31D8-F074-491D-B18E-F2CA2313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F5FBF-5244-4417-8AE2-864750D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23928-A6BF-43FE-BE01-413C145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4E30-252F-4C12-B3E0-B6BB748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99B-DE3A-4849-A3F0-0C56B3F7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6D0DE-7129-487E-AA6E-4580378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DF80F-F2E6-46F9-AEB1-7C7A7097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68ECC-8474-4E9E-AAF3-DA06C21E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8EAF-2284-4A6F-A3BC-0916D5E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F5E8E-B931-4463-AF52-C34A89B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F780B-122A-4ABC-A467-D0317FA9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99F07-97B7-4320-8426-6EB62874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0F092-7201-4C09-9067-C5FA0733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55FF8-16A6-4A91-95BB-77524B5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4469-ADE7-4D01-8538-DD6C9D0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95F-6620-4F95-A891-3F8C3C46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5A55D-5612-42AD-AD1E-8BA89A8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6E742-719E-4060-9DE7-8EA5DA0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CD84-E80C-4306-8213-4C96DCC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ED65C-9461-4227-9893-8ECC7C10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470D-F683-4E34-AE7E-11580E01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561E6-C92D-4A1A-8109-98D73B94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71B9B-9F0B-48E2-91D7-2DE1618E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40AD6-34C9-471C-AD58-8E72462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ED52D-E171-4C8B-A964-C90C2FA7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B8A93-5F07-4082-8A05-38A186E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731-5848-4514-8CFB-7A01E27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E6D5C-1FAC-4854-A12D-ADBD95DB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1A5CB-EC7C-4C38-9501-1551BD1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4CEE6-84E9-4146-8555-856500F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F5651-37FA-47C1-BFD4-416AED87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28C3D-4C17-4629-8BDD-49E1389D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2370F-05ED-450A-8C68-8C6B8737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A567C-9085-43DD-BC44-D9D881D9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87C3A-3D25-4210-9CAF-9451009A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B6C6F-BAB7-4AB0-ACDB-D92B548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8A400-5D78-431A-9D9E-886732A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D0A-6AAA-465E-8984-96729289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A66BD-941C-4ADE-B847-FF30D5AB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93D86-FA7D-4935-BA19-83469C12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EE685-CE8D-471B-8A9F-4B621B05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1C78A-DBF7-4104-BC47-C26AAB2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78238-BDA3-447D-81BA-7247AC1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B222F-6340-45F4-8E82-125379F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51D77-5C21-4C2A-ABCF-F6852C4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9B9F2-D4B5-4C60-859E-F735C5FC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86294-B335-4AFB-B59D-86B6EF58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8361B-CED5-4C1E-8D8E-19591E85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C94-DA8E-47F2-B058-01A0ABDB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36DD1-CFB3-458A-9526-8ED2F74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F648A-6EC0-4097-A1C0-3B8D6B0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065C5-D7FA-4CF5-8985-31BE5831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12295-F394-4743-9F8D-AB7F6CBA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4989B-AC2F-4BD1-812B-D9B2309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6A960-4CF2-407E-BC38-E814FB1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703E7-2FB9-42E9-BCE9-9332019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4F0B5-F11B-4D37-BFD6-A85ACB6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EF9B4-95C6-4B64-8D9F-FC8B0B41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3955F-C064-4D94-8DB2-7ED30DEC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ED3-7A54-4073-8E6F-1706873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5F5C1-A5A1-44A6-83D7-1C2F421F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7D508-EBEA-4EEA-86F0-1D403663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EEACE-A90D-4005-9DD4-ECFA0341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8C59A-3411-40AC-9BDE-FAFA945A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FA8E3-BB23-4887-BFD4-EA7F10B1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4F8E2-BD1B-456D-9CB6-7919709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B7E20-4F58-47C7-938A-8544A72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044A0-B358-44D3-91A1-AD0E232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A6D2A-05AE-4DC8-8F4F-6379E19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02A06-35DF-4A2A-A98B-967E933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C5E-8B7A-4CF4-8C8E-86B049E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8B199-FC59-43E4-B6A6-CA87AB3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6A6A2-69EB-40F4-AC01-100E6D7F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EBED8-8FA4-4602-AC77-8BD2A73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0DAA1-BF20-4303-9879-26F14EFA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41FB4-5005-4500-B78A-E640690F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A7520-4537-4E7E-940F-5C4BAAFE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BF1B5-F505-43FC-9289-52080ADD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EE10-8F82-483E-8EE1-302A14FD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002C9-689E-4ECC-816B-9EF8681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C38EA-6466-4533-AC1E-BE69C87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EED-216A-4BAA-AB20-19500E1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67B67-EEB4-4E17-A86B-E3B988E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68319-0C73-4525-B9AA-75B5B72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74EC7-CABE-4B78-9448-5CE91A5F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FD11E-237F-4BD7-A540-442F343C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8562A-8377-40CB-83E5-6F79D18C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9FFA9C-8DC9-4D6D-B9EB-E25A8F845FF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F8876B-8A9A-42C8-8970-3748AABEC13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0CCB6AA-0DCF-4A5B-B914-6A993CE870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841D17-5DFA-4A88-AAB6-973092645F8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FCFB71-AABD-4875-9B94-597F72FDF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578-AD5D-47F6-804F-85B8840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73B589-92EB-4D64-AA0D-1F1C93D4B9C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290A2FE-B462-45D4-AD43-D84E8B87DE7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CA4A61-8A87-46B9-A8C7-503616FD076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517969-5B5A-46C6-B81F-E8D2CD4C214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D6FAFE-1192-4751-BA98-E472651EA51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DACE15-B56D-4467-9916-25BBCBBCB0E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E7EB62-FDA4-450E-881A-07F27876DF5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04DBFB-C022-4645-8CB5-696D3D90E17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B5EEAD-5148-44EC-9588-7283FEBB4CE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EF3879-CC5A-4EE8-AB85-891946C5B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8EA-A35E-4548-A402-70BC23E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F953E6-832F-429A-96DC-8FAB3513861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17E02C-22B2-48F1-B1B8-31BAEB46885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3805AD-11B9-4486-81EA-ADBEF0F7290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F4D7C6-7CE9-4BE2-A9B2-15D7FA63C12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8FF33D-64D9-420C-8BE7-D01BE7ACF31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0DBBF2-B7DE-430A-81EC-B4CBCF13DD3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326FA8-32EF-40C7-BD4E-A0C6EDEC9B2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CE278E-A29F-4F06-96DB-7A9561AA77D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7EFEB8-823B-4C99-8F6B-34448C2F228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639498-98FE-4BB3-9BBD-B3C641AA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841-7731-4E78-85CE-46F5846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9C1E89-AA38-4ED9-8D20-37A6B74D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08BE4B-BFE6-438C-9ACC-AE6C7E17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6729F9-4313-4915-9E74-AE7EA568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EE3A15-12B2-4A9B-997E-E611666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CF55AC-23BF-4E49-9ADF-D333515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848B60-2107-4357-8AD3-9D2E376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31F793-8059-48B8-B37A-4EBAC53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BC8413-AE49-460E-81DA-F85F726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6AF5F8-2677-41FE-ABEC-93AC7A0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9A1225-76A8-4737-8506-76A960F9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949-C173-46DF-92E3-5A6FBE6B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69DC2A-9F6A-4E90-A567-64E36602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F66D03-3350-4826-BA37-A1A8AFF9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87C4BB-211D-4994-9B9F-E3C7CEE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0BC9FE-1D65-4CA7-8CD8-8FD72FB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676F3C-CAD3-4ADD-A9CD-1653303F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254D530-00ED-41DA-B09C-37AF42F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A01FAD-7D16-4048-99A7-0D791B9E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1C9D3C-B8C1-4210-BCD8-2693B22D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D2CFE9-9962-4FFE-ADE9-B64D0B1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4C7611-F1F4-4597-AB3B-DC55DC0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D343-25A5-43D8-B35F-D090129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0EAFF5-4D74-4837-B2DE-6F233B4E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946C07-7836-44E3-84D0-88A5E4D1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835AA7-250D-4F39-A905-40D3EDFA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89272B-8164-46A0-A273-FBE5FA2D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AA4F70-1733-427F-9653-E314A3DE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197BE7-7D16-46F2-A7A1-54E9140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C9FD6F4-652A-4E0C-B002-E78CB13A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5CBD9B-B98D-4DDB-B08D-5DC70A73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4ADEE4-D6A0-4796-B5D2-2114AE37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B033F2-E67D-451D-BE2C-DD6C7BB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6DCD-6A69-405C-AD20-44B497FA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BFD9C2-90D6-438E-95FD-BE12D30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45CEC1-1E0A-4CEC-BF5B-0E3319A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370D18-303E-4E82-A927-560F65AA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3E86AF-DEDF-457B-8EA4-E7939B96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86BBA11-1732-44E8-90A7-6310C310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89BF49-386E-40B9-9CE5-B7613585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4D84C9-7BAA-4444-8B60-5ADD637C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18EAA4F-EED2-45EA-B734-715DE130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3DFD25B-8AB2-4CF6-90C8-0E9CF29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1977C1-1652-489B-A67E-925494F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B5A0-CA26-4FFB-B311-BBAB383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07477C-6C3C-4213-BD2A-738F596F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A0CB02-B87B-41F6-B61E-19B4332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FBF1D4-05E8-4BE6-86EA-6A10FC28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BFF66F-73B7-4CDB-9B36-EF59EEC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13D696-CD42-4A64-87D9-2E29635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566B27-3A57-4DF0-841A-A35C375F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4EEAE3-96F2-4A2E-8E3A-3ACF7BBF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AB36842-9FD5-4B41-8338-1C1B170C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4B0E88-68C8-475F-A174-5DB3E3AE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FAB76E-CB42-429E-8543-022761D3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B11E-D68E-4DF7-9B21-19943EB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D2F73C3-248D-439C-9DCE-2D89025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0111A7-E237-4A70-9F5E-677095A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0423DD-1228-460C-AAF6-3C0358E5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26FB43-043D-433F-B6C7-7677BD88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6AED3B-2957-4DC6-96B2-D3D4CB5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4B510DA-9987-41EE-9118-A0A3E90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1B4B63-6C42-49AA-9938-3536788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98DA2F-42E4-4247-B5B9-8B6F6C9B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F1F509-6899-4634-89B1-64EE8F29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ACF54B-40E3-4C8E-B42F-5475CBA5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1ED-E8EF-4EB8-BE1E-37DC916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098B28-973E-4D3C-A065-B05107B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C85A9EF-3EF1-4720-90C2-7697C558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12560E-5A0A-4402-838D-5021B14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A55807-FF4F-4A81-A432-EA00049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CE8970-CEA9-4E20-B82F-3862E08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2B4FB4-FAF5-490A-BF0C-7A6A5FA1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271DD9-0300-4B72-BF95-D637665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4FD842D-580D-460A-A68D-0A11A06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F6FC2EC-3B6E-486B-AE22-B15AC2FA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4AA79F-6BAE-4F1D-A7B2-9B647DA8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6C6-DD31-44AC-B7C9-DD3BE2D1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F0585B-FB36-4C55-83D6-07615599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87AAE6-A094-4441-BC81-3F45E4B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B96308-DA04-4E54-AF40-587A22B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EE90DF-8402-4DAD-BE43-99F0750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79EE0FA-FC27-45F8-866B-CEB921B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3C7405-88E3-4F4E-9A91-DE2AABBB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0F3E10-6C6E-4AB8-B19F-8DA1E47B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D9ED9A-9222-49C0-AB9E-AA148F7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17E1B3F-A9A5-4945-9FA4-0F0DD97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FE07F4-98DC-42EA-B48F-ED8A663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566-A150-4667-85B4-9E3AF70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D1B74B-A311-418C-8856-69BF5185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E64C99-D874-40E1-B7F5-98FA03A0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00E9BA6-A6FC-4EBB-87FD-222647D6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26A575-8C95-462A-B74D-F152E7ED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EDB15D-192B-4C8E-BAC0-337898BC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E931A4-2E7D-4219-88F1-E02EA91E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A6C792-65F4-42C8-8D96-BCAAFF3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C810DD-F2DF-415C-83D6-4E3D40D9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C17B7F-AF9C-4708-A13B-399E93BD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43EB25-5F4A-41F9-8BF1-429A8B5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8CFA-7738-4D96-BF8A-23DCBCA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8084E5-A218-465C-BABC-B940F74C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A68AB8-71B8-4737-966E-F33FCF7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9A5CB88-17B2-4247-A520-3609A7C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303F5B-2CF5-4C33-8EFF-9A01FE3B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4BDDC4-E492-4C2B-885B-4F25719E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214A3E-4640-48F9-B100-466EE1FD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1FDEEE9-295E-4C4C-80F1-F7791B9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52BB96D-1F38-4A3B-8E9C-B64A711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90BB248-8751-4493-A334-0FC711D3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8DFA430-3474-45E4-A441-7F90A2B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19FC-1378-4AF8-9B1E-81F67DA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3AB2DE-5A8B-4467-97D0-94B3C40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501883-EA97-4397-AB06-ED1A6AE8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925D5F-325A-4AF1-B66C-B92DDB1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E51F5A-44EB-446D-9072-3F8D427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044D8DE-8D8E-4657-8E74-6FE7A9DE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1DF18B-7A5A-4321-AF3A-647E1B40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597FD8-2AD0-4FB8-82A0-BF795180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A82BC96-0994-45AD-ABD7-0214E25F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4B25D09-4B4E-4206-AC35-91E21EEA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CA5C55-DBC0-4BC4-A86D-7978FFB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A647-DC69-445C-8901-BAA0DEC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6F7D561-25EA-4277-A52F-1B05B771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8B76EDA-3E5F-46A9-A53E-5A912BD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8A7333-3758-4A60-B75A-8C9808F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5C7BB6-5EC7-4556-A896-2CD015E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BFC985-E2DD-4B43-A92E-0BE3111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ED7381F-2E93-4EF1-81FE-6CCD5E5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28960E-99EA-464E-8504-45CCBF9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157D56-1336-4058-A1CC-EDF3CF64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D6CB7A-7348-453E-B804-602FD49F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B380C19-4F07-4660-A87A-3CBF9F11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66C7-69E7-4BDB-B917-D2B23C9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15C106-E1EB-426F-AF9A-47C78745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9E95B6-FAE8-4D09-A228-37F81316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CEDDF9-16D7-43B5-82E6-E412ABD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18FDC5A-CF7E-4A63-B080-F911C28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00FFDD7-7EB2-4CE8-831E-85E0AE7C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5DBCC37-E0D5-43D4-838A-5679801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67B2D4-39AB-469F-BCA7-9DCB326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A2A25E9-0CF9-4F08-8C7C-C7641591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6042FD-061F-4FBE-AF67-CD781294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92DFED9-F7C5-489D-98D2-15CDE25C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2E9-71B8-4183-8CCF-A8685C45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6D74E1C-3A99-4F6C-8177-227DECC1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7647EF-6D50-4DDC-BF8B-B2464777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0046EA-B856-4B28-8905-C1BFD21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D21F6D-6174-48E5-93BE-DA279A3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D6BF10-3AB0-4D38-8C47-1F143F4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DBC8637-A38F-4481-AE32-B8D56C1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E7E08F-93AD-418B-B555-DDE66854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8FEEB8-64C5-4F9F-BD77-BE74408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09F54F5-1EC4-4107-92A0-07E76E14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3E412D-4A34-42D2-A6AF-02474E8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7606-2442-4C94-8CC4-982BF814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D65F2FD-31FD-487E-8CC3-A7C0C6E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F3F57A-3B2A-4AD7-B537-A4DFB411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D167A7-E75C-4827-8CD7-AD97AD10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47D5C7-F48B-48C5-8C62-67F6728B4D0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D4E2E6-CA69-4DEA-8E76-041E840569D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A0D779-EA1C-4533-BF78-46F7AA4B34F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1C74BE-FE32-47C9-8530-ECF68B80F9E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A4844B-79A0-4B14-9C6B-2EF4554AAAE8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A96666-2D82-4144-B28B-3A74C3B9EAC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D642CA-196D-4FDA-AD17-2165247885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E78F-8E4C-450C-B5CA-F5A7EFA9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7925D1-3AEB-4CB5-9B54-C3FA81DFE85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A810E3-85C7-4E5F-BCCE-E170B2E271D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361895-8838-4E21-B285-52D0AC9CC28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5013F4-D2DE-4AC0-BCB8-3704625B7CA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694B32-9881-4EED-854E-3F249F27F1F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45B8D17-161A-4FA7-84F1-22F326DBBC1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5BC3D8-D18B-41A2-9473-F99ADC14E6E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5510E78-4915-4A57-8351-00D3C780C3F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A48862-D40E-44BA-A0F4-E4670DC2EC25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A7F39F0-5279-4931-BBCE-EB5F45A881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B4AC-75B6-4D95-BEBD-2676FEF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858354D-3069-4355-BA3D-D19096EC59D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4FBB41-0A47-42D1-8C7F-480C49D7FEB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4A4E7F-B9C5-4BD8-B0EB-76D0518A9BB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B09ACDD-8A76-467F-96BE-A2D25013D20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B8FC85A-C1A3-4350-B98D-B5E6D3DEA58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54F8FF1-461A-4082-A063-AEBCA20D1A9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1E8DAA-C523-400D-ADBC-CE194F1CF2F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E81775A-C022-4AC0-8350-5ED9F200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E61F590-497C-43E5-A468-DF7DE88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7C15DD-A27D-4C4E-ACEB-4E5C423D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17DA-DF57-472E-B2A6-CBFA5944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4075E8E-5012-43B5-AD44-96394928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EFCB79D-F388-4434-8182-1233390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58E5E79-5713-4378-ABA4-23263114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99F5C8-BF39-4FAF-9B7B-F1E1C593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BF62493-63A3-4A09-A808-617A743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4BEB3FC-0776-4370-8C89-04AAEDF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A0C701-C6BB-4817-BB0A-7B69B13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230B63-9B4C-40CE-960C-EEE39C1F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4711E0-E7DD-4150-88CE-FAFA053C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3445CF-6E36-4D45-96D8-3092D681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0AD6-9037-40FF-975A-8FE5D6A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E78D0EF-64A7-47E3-BC05-6DFEFF9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2D7F12-B6B0-44A2-B9F6-D3A2EF80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6523B65-E83B-4F4C-A6A6-4AD18AF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65463A5-69B6-4982-8045-D6B8EB9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072CF6F-BC28-40EC-96BB-6CA36F4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99EEAE7-71BC-4A11-A79C-7E5BC94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7A29D5F-9FFF-48F9-8BB2-1A01FED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51B3221-0E68-4A25-AF1D-482D46A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918B956-7574-4BF4-8197-B0D6AC4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DEC5C70-3EF5-422C-B93C-426334A4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9361-A7B3-4386-AB31-20EAD84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6C4CAC4-E39E-4769-9BF6-7B7C4E3F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01BD004-F0FE-4E95-B5CB-12A2EEB2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9CD9040-9BEC-4E24-8C4E-812774C3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D9D672-B0FF-4439-B739-18767EE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9D8F01-2B07-439D-A2A5-3C32AD3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1F97194-D200-40C4-B322-EE4E7D1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3A4D57B-C2CB-4722-A8CC-9C05ABD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91D7EC5-C39F-49B2-9520-11BDF5E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F2BAB26-F8C3-4585-A280-D02457D6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0940B22-EEC8-4503-9205-E8731AC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5B7A-6B11-4D28-9631-F99D6EF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422C5A8-C057-44A7-8A08-52A4162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79AED51-0703-45E2-9F6F-EDC2FF96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F9CCE73-5A8D-4F2C-81BD-5B8F2638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0BD831-ED0D-4687-82EE-4709E96C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CEDBBE-FA46-4274-B46B-D5E20729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A745244-B403-4AF9-ADD7-BC47F03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79773FE-3468-47DF-B343-40C05638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90CF053-7AC1-4E24-A33E-0E192140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B0DEB7-D9F7-485F-BD68-FCBAE600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3E38158-82C7-43CA-9836-79816F5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BD7D-DD81-429E-8B24-9BCA169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6D28E6C-3BEB-4076-91E5-2F98E1D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1054CC-01F9-49C6-97E1-5B92921E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0C7E24-4D68-42F1-A991-F00CF14C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B7C47A2-AB68-4B35-AE0C-08198E17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A84AD85-8C4C-4719-8040-43AE12F5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52BE60-FD4C-4456-836D-E46575A2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611560E-66A7-4265-8E50-FCDD74E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C1B39A4-E365-44D9-A280-24771F3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ED1247E-846E-490F-997B-3FA0FEE2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BC17B50-270C-4E13-90B8-C4B9B82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D62A-23DA-4984-B974-68BD7E1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FDEA091-F62D-428E-BD3D-43985F33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2B5765B-D7AC-41E4-99F8-F6518C8B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55D9BCE-65AE-4072-89AF-FEA6942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945FA8A-2CD4-4F43-AE70-D8E98688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FC68133-8F96-459F-A525-22D7331A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18BF33E-09A7-4452-95D8-EF3F129C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EAF6FEC-F34F-4CDF-A23B-A1347A16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06140A7-751F-4402-8FFE-45F3BC95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2E5A0A8-442D-46C9-8579-6372E9A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065C61-9AD3-46A3-AD6A-065E1668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1B5E-131B-4C2D-B728-94F299A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5138450-B2DC-4A81-AD12-B2B8DCA1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E111BC-FE83-4620-A6AE-78971B40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3FA308-0AA3-4283-ABA8-402EC31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FEBD51B-D759-4683-A55B-A7BFDDD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6D58BFE-D179-491D-BA18-740D2B6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BEC2FEF-0C13-41C6-8C67-5E96303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469D073-8668-4A0D-9C73-7EC4B5B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3347509-5D1A-4999-BDF1-54F01E87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0E90ED0-1F2A-4640-8E7A-CB473728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A0B50F9-3009-47A3-8146-A5BC2191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ED02-CECB-4234-9130-A81AF49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141E0CA-FB1C-400C-88B2-AB66F70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048EB44-5019-4203-B786-8F723CFB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71D3E07-9313-4856-9272-1E6CCE1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49A2B08-84E0-4E1F-847E-43585165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0661105-0162-483E-A1C8-B1B24047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ECA5FE0-69B0-4431-BFB9-1989931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1C9E1C4-6A49-4C81-9214-F9D6045D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CAE996B-6EF3-46AD-871C-53B3DB7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435897B-E8EB-4E7C-90B0-2970B975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97668D-65D8-4BBB-AB2A-1991A1CE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AE0D-82F4-4459-9F98-B7956CF1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9579418-AAB9-40DB-A102-8A0939DB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E82B3C2-A335-40C4-81BE-DF5936DA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C805946-2D60-4F79-B04A-3BAAE7EE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90CB1BC-D355-494A-A92F-0C8B5DB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976E661-B72C-4545-AFCC-C0C70EDE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53B730A-88A0-4042-B731-24AC190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EC245A6-B3BB-4FD5-8035-19B551F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5E4DDA4-AB5E-410D-B3A2-B968532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3169515-3523-42AF-85AD-F49D6589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3646D88-B022-497C-877A-8F1356DE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FEEA-BCDB-4F15-9C71-8DF185B6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E7E393B-C90C-439A-A9C9-6DC8A600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F034DD-C669-4D62-B330-03281D92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CE9FCC-11E3-4893-BC5E-B23A8C1B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E7813A8-F437-46DA-9208-847BCD01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C21F983-3ACF-4B45-AC44-BC90BCB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0D3D90B-803D-4EFD-A0E0-97876E10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889F46E-9C29-410A-9F46-7D92519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4FDD8CE-AD38-48A7-9E62-ACE295FF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9FB2013-B2CF-42BD-B51E-16E49161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F71FC3A-EE83-42DA-AF02-B3160A9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6BF7-98E0-49EE-BC2F-98DBE3B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063581D-3188-4475-B44D-E9AD80C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9E24C13-C8FA-4E42-A481-D785CB0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D1FB91B-8BD8-4E7E-B6C9-DC80FC64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E7FC2FE-C1D8-4620-BCB3-C2A8C96E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F5F68C7-9962-4277-801B-FD8F4B45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0E0363F-60B6-479E-B06B-21BD8284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85254D8-2D59-4F02-B44D-75172843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F2DB688-85F2-497F-8490-2C174D7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19E6843-30E5-479D-8E53-02E94D7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FFC2AE5-A015-4A65-B191-0EAC549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7419-7E39-4506-90D1-1B85F9F2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93D2DA7-A98C-4375-99A2-0F10484D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EB9F0ED-4C77-410B-A898-E0AF7B2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4E1177F-962C-4017-8DED-D8C68B3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96506A1-DF8F-4D3D-A0CF-932CD5E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179D62F-B3D8-4058-9208-72F4CA4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D89FA7F-8179-4097-9CAE-21381251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BC6EDF1-BEE7-4471-BBD2-66E5A444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F635C40-08C3-4868-96A1-6901CCEF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BEACB46-5A6A-483E-BD81-E60C8DD2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D49CDF8-9881-400B-8866-AC1A8CF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6B29-B298-4AAD-B879-58910B45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D4D04AC-3E66-42D6-9004-750B233A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D6D91F0-A313-4187-AD82-634DACC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A6D02C8-C598-40B2-A000-25C89BE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A0833C1-EFB9-42DD-96B2-65C3C6F6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67FA5A7-497B-4C44-A178-BDFABEF3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96C621C-1FEE-457B-971C-1B3504A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4C6DDFA-16AA-46BD-84E7-2D86F88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C44E988-2952-4E80-8D2D-6368DAE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6F1040F-ED47-4F7D-A8B8-34BD9956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EA78F80-BB95-4AAA-830E-18A21FC5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05A0-AAFB-4994-95BE-DD9FB950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C7EF80C-EF01-4E90-8C32-BF9E75A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9A90AAF-2E8C-41BF-8255-6CC6929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3C8F5D2-9A53-4FBD-9230-F466C0C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DDF653E-DDA7-495B-B9E6-DEB627D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D417443-308A-4B25-8B60-912C69AC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A2B2BA5-862B-4951-B1F8-4A675639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12837D0-EDAC-49F6-89BE-5F9470A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5501187-92E8-452C-B536-9D0DB7E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2558BBB-FC53-4613-B73F-D65AC631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8516227-C843-4A56-9452-184EE3E1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7099-C80D-40E2-BBDD-8AB83C1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71BA625-60C1-43B4-B354-79E1BE96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8236766-E858-4319-9ADB-6AC34F65C88C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3AD2DE7-1360-4F10-BD52-9909F2A6AE9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677B793-5201-4534-B5D6-05DDF24CC5C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720FAF0-A9AD-495B-AB37-D4D0EEAB3D8D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581140E-E98E-4CF1-B8A2-455762A9980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28917A1-E7E7-4748-A4AD-B2A4532A602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540B0FD-046F-4D42-A0CB-1C26B2837CB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313F618-A9A5-44FC-87AB-E6C802AD8D5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FF2989D-C56B-416A-AA28-A5E588B0EC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2C0B-74F0-48EE-A5DF-FE577C1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DF59CD5-879E-4A39-B112-D6565DF6691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6E62882-ADCE-46FD-BB18-1FDFE004BDDA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F806CC7-92AF-4541-AD8A-FE55962B3E6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C5B1CB-9014-4CD6-A672-53E9C71FEF07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05419E-C3B9-47E4-8C2F-C7DA5EEF7B6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5B6EDD-9FC6-4AE6-9517-1EF0EACF306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76BE314-2B6E-46D9-8AD5-5472070C9584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9B4393-DA4D-4650-92F1-C0AC651CE02D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102497-3541-4FDA-BC0F-EB7D17FD013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57B328-99C8-482F-9185-0BAEB95D78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2691-C690-4A77-8151-78AB459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46E03B-FE4B-4FB8-BCE1-C53D7AAC4DB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1C4A59-EF6A-46CA-A554-C078F63CAB0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60A774-A606-4CF1-8B9E-5298F33E37B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E4E368-7597-4A95-B440-255EBF802395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EE8DEA-3D44-4003-85AB-2D15803F5A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3303-A4F5-4251-B784-996265F1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3707-2BC5-4837-93F5-BFC153AA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5014-5A76-444E-90AC-CB471CF6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D55F-FAFD-4472-8A6F-B9BCE557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DA10-E4BC-4886-AFB5-53EC24C7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7BD8-D81B-4059-98A5-F9ADEA8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F088-2EF5-4AAD-AD79-7EBAF142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41C5-D6D7-4925-ADAE-CC52EF5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EC19-10E3-4154-9A71-FEA0EA9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3AB1-7926-4CE7-99E2-F8EF2C6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59269-A05E-40FB-A91E-58E63AB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530CA-9119-42CF-9590-12CDA9B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5A0E-84E4-4E70-AFFB-9DB51F5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2F46-E130-43CD-B6EB-30835E91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2EE6-2559-4DAB-8EFD-1381CD5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459E-F55A-4430-8750-16481E9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E2ED0-BA12-4C4D-A94C-4850E33A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3054-4F30-4EDF-A258-E98F411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D631-8AB2-4C23-8139-AB77DAD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57CC-51D0-45BD-8E96-F60FE7C5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6F91-3339-4186-8A08-1C2EBF61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C1EBA-B69E-4AB1-9B77-620BCB6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00BD-3ED3-45BD-8025-4B8E5FD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6A15-34DD-417E-9426-6B899D3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ACB6-DAC8-4213-89A3-017730A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C0F40-9C5B-41CA-BB1B-AA3BC618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57200-E34B-49B1-BFE7-E88A7A19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5DA3-EB56-4583-96BA-77C70530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4467-AC2F-4A7D-992A-BD350FE4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945D-491D-4098-B5BE-DD43D4E7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4C12-1F36-4BE6-AD32-D91FFDC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ECBB-3416-4D54-B7B0-0DD9BBA2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762C-8635-434C-9AB8-7C7BD327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B1B3-8983-4A75-91C9-A818AEF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9126-DF99-4B8F-8A96-658010D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EAEA-89CF-476E-A5F1-DDF24F1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3CD0-3473-4CF1-A8A2-19E3CAF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5D2B6-AE68-409D-B562-45FBAA5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3A2C0-A0B6-41B6-AF98-B5B5D119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A5D5-221B-45E8-AE3D-9629CD3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1F431-153A-4D34-AE84-8A5C7CE6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D9D5-E030-4F7B-B27D-7CCF84D6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2DC3-C19F-407C-AC81-15D5F1E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896-7A44-4653-9101-D45C5F91EF7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24F3-ED89-4709-A419-A15AD0063E4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881-6774-4F1C-91FA-FF9602B81B0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FF70-1C6F-4AF7-8DCD-0F05275960E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2BF3-C1A4-4B7F-9480-09CAF8F0EC0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D98-9646-419C-967F-555ABD99276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A29E-BF5D-4BE3-84F6-6E4FFA4747B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D59F-9E9A-499B-A116-CFF8DC77624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18A6-D886-4DD0-854D-CF6C9ACE24F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735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7829-8CF3-4BC0-A76E-45F60ABAEC9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EE42-0154-49A9-A12A-B4CF08DEA6F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892F-26A2-40E0-9A7A-FBDC1187E3B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AAD3-8095-47E3-8475-E81BFF6997A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2F6-5BBA-42E0-8381-1690E8FC09C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88B-B2FC-43DC-9212-88771B00620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03AA-B12B-4872-89BE-01C153F0C8A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B6B-0514-4760-A9E3-753686476B2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33C-EB9F-4A4E-BD32-C8F74219622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957-4447-43FC-9760-38183592B27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1796-74BE-4FB0-AE18-E17B161885D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960C-46C0-45BD-8F28-1904B0BDA56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26D-421F-48BB-AB74-5E2B0E735BA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5F4-4AF6-459B-B097-3970D82297F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2D4B-4FF7-4A62-A618-9C224F7DC2C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41C0-50EF-4C77-8378-59F35502B40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309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Num" idx="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E76-2FF3-4A73-9321-3A199F798FB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780F-1730-4CD3-84A5-791200AD514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1ECE-4493-4773-9A93-D4F3FEADE49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9D0-BA24-4410-BD58-54A732AFBDB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ABC-686D-409F-97CF-AD2D6A50F0D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72C-79FC-465D-8E77-57917036B02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C72-982F-4CF6-B389-7970C364884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13BB-EA13-47F1-B5DB-40FBD96AFCC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9BA6-6F43-40A9-8A71-310EBF64B17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CFB-8042-41BB-8CE7-960DC49CCA7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C936-5D3C-460A-85C6-37F9F5094F7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3637-6AEE-4537-A01C-1C7900B7223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140-CD7B-403A-B1F6-D602869D7EC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037-34B2-4CF4-B783-88532425F0F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F019-772C-42C8-9AF0-084DD0BA25A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883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B63-79C8-4D99-A894-D3EBB48B28D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FA37-0B24-4EEE-BEDF-2D24C34DA3C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F2A-713A-4D6A-8E05-127A24DB25D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422-7EE1-48B6-A82C-B14E0C8C94C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28CB-CDD4-4FA5-A8FB-87DC216F424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BFA-90D9-424A-85F8-3852B1701F4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hyperlink" Target="http://www.ege.edu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4da"/>
                </a:solidFill>
                <a:latin typeface="Arial"/>
              </a:rPr>
              <a:t>Федеральный закон от 29.12.2012 № 273-ФЗ «Об образовании в Российской Федерации</a:t>
            </a:r>
            <a:r>
              <a:rPr b="0" lang="ru-RU" sz="3200" spc="-1" strike="noStrike">
                <a:solidFill>
                  <a:srgbClr val="3204da"/>
                </a:solidFill>
                <a:latin typeface="Cassandra"/>
              </a:rPr>
              <a:t>»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87280" y="1665000"/>
            <a:ext cx="8532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Государственная итоговая аттестация является обязательной и проводится в форме и порядке, определяемых Федеральным органом исполнительной власт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Правила и процедура проведения ЕГЭ,ОГЭ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23640" y="1484280"/>
            <a:ext cx="8530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ГЭ и ОГЭ проводится в специальных пунктах проведения экзамена (ППЭ)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51" name="Прямоугольник 3"/>
          <p:cNvSpPr/>
          <p:nvPr/>
        </p:nvSpPr>
        <p:spPr>
          <a:xfrm>
            <a:off x="324000" y="4365720"/>
            <a:ext cx="8640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и ОГЭ начинается в 10:00 по местному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начала и окончания экзамена фиксируетс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2" name="Прямоугольник 21"/>
          <p:cNvGrpSpPr/>
          <p:nvPr/>
        </p:nvGrpSpPr>
        <p:grpSpPr>
          <a:xfrm>
            <a:off x="-6480" y="6431040"/>
            <a:ext cx="9163080" cy="439560"/>
            <a:chOff x="-6480" y="6431040"/>
            <a:chExt cx="9163080" cy="439560"/>
          </a:xfrm>
        </p:grpSpPr>
        <p:pic>
          <p:nvPicPr>
            <p:cNvPr id="1953" name="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-6480" y="6431040"/>
              <a:ext cx="9163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4" name=""/>
            <p:cNvSpPr/>
            <p:nvPr/>
          </p:nvSpPr>
          <p:spPr>
            <a:xfrm>
              <a:off x="0" y="6435720"/>
              <a:ext cx="9144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Прямоугольник 22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56" name="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ришли на экзамен. Что необходимо иметь при себе и можно взять с собой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9" name="Прямоугольник 6"/>
          <p:cNvSpPr/>
          <p:nvPr/>
        </p:nvSpPr>
        <p:spPr>
          <a:xfrm>
            <a:off x="324000" y="836640"/>
            <a:ext cx="3240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(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Прямоугольник 10"/>
          <p:cNvSpPr/>
          <p:nvPr/>
        </p:nvSpPr>
        <p:spPr>
          <a:xfrm>
            <a:off x="5742360" y="971640"/>
            <a:ext cx="2620080" cy="642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обхо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арство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Picture 10" descr="D:\!МолодыеТихоновы-Е.В\!Работа-сделать\РЦОИ\1088102-3d-Teeny-White-Person-Carrying-A-Ruler.jpg"/>
          <p:cNvPicPr/>
          <p:nvPr/>
        </p:nvPicPr>
        <p:blipFill>
          <a:blip r:embed="rId3"/>
          <a:srcRect l="0" t="0" r="0" b="12916"/>
          <a:stretch/>
        </p:blipFill>
        <p:spPr>
          <a:xfrm>
            <a:off x="1692360" y="3578400"/>
            <a:ext cx="1439640" cy="111096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1" descr="D:\!МолодыеТихоновы-Е.В\!Работа-сделать\РЦОИ\1087621-3d-Teeny-White-Person-Writing-With-A-Pen.jpg"/>
          <p:cNvPicPr/>
          <p:nvPr/>
        </p:nvPicPr>
        <p:blipFill>
          <a:blip r:embed="rId4"/>
          <a:srcRect l="0" t="0" r="14258" b="0"/>
          <a:stretch/>
        </p:blipFill>
        <p:spPr>
          <a:xfrm>
            <a:off x="4103640" y="674640"/>
            <a:ext cx="1013040" cy="13334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2" descr="D:\!МолодыеТихоновы-Е.В\!Работа-сделать\РЦОИ\1088070-3d-Teeny-White-Person-Holding-A-Calculator-In-Front-Of-His-Face.jpg"/>
          <p:cNvPicPr/>
          <p:nvPr/>
        </p:nvPicPr>
        <p:blipFill>
          <a:blip r:embed="rId5"/>
          <a:srcRect l="0" t="0" r="16688" b="0"/>
          <a:stretch/>
        </p:blipFill>
        <p:spPr>
          <a:xfrm>
            <a:off x="6064200" y="3284640"/>
            <a:ext cx="1063800" cy="1439640"/>
          </a:xfrm>
          <a:prstGeom prst="rect">
            <a:avLst/>
          </a:prstGeom>
          <a:ln w="0">
            <a:noFill/>
          </a:ln>
        </p:spPr>
      </p:pic>
      <p:sp>
        <p:nvSpPr>
          <p:cNvPr id="1964" name="Прямоугольник 27"/>
          <p:cNvSpPr/>
          <p:nvPr/>
        </p:nvSpPr>
        <p:spPr>
          <a:xfrm>
            <a:off x="3348000" y="200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лев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Прямоугольник 29"/>
          <p:cNvSpPr/>
          <p:nvPr/>
        </p:nvSpPr>
        <p:spPr>
          <a:xfrm>
            <a:off x="1476360" y="27478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которые можно использовать на ЕГЭ по отд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Прямоугольник 15"/>
          <p:cNvSpPr/>
          <p:nvPr/>
        </p:nvSpPr>
        <p:spPr>
          <a:xfrm>
            <a:off x="1258920" y="5975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, транспортир,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Прямоугольник 16"/>
          <p:cNvSpPr/>
          <p:nvPr/>
        </p:nvSpPr>
        <p:spPr>
          <a:xfrm>
            <a:off x="1258920" y="4788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Прямоугольник 17"/>
          <p:cNvSpPr/>
          <p:nvPr/>
        </p:nvSpPr>
        <p:spPr>
          <a:xfrm>
            <a:off x="1258920" y="5183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 и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18"/>
          <p:cNvSpPr/>
          <p:nvPr/>
        </p:nvSpPr>
        <p:spPr>
          <a:xfrm>
            <a:off x="1258920" y="558000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4" descr="X:\11_Тихонов\2012\презент2012\221974-3d-Teeny-Person-With-A-Check-Mark-2.jpg"/>
          <p:cNvPicPr/>
          <p:nvPr/>
        </p:nvPicPr>
        <p:blipFill>
          <a:blip r:embed="rId6"/>
          <a:srcRect l="0" t="0" r="0" b="22349"/>
          <a:stretch/>
        </p:blipFill>
        <p:spPr>
          <a:xfrm>
            <a:off x="539640" y="487368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" descr="X:\11_Тихонов\2012\презент2012\221974-3d-Teeny-Person-With-A-Check-Mark-2.jpg"/>
          <p:cNvPicPr/>
          <p:nvPr/>
        </p:nvPicPr>
        <p:blipFill>
          <a:blip r:embed="rId7"/>
          <a:srcRect l="0" t="0" r="0" b="22349"/>
          <a:stretch/>
        </p:blipFill>
        <p:spPr>
          <a:xfrm>
            <a:off x="539640" y="527364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49"/>
          <a:stretch/>
        </p:blipFill>
        <p:spPr>
          <a:xfrm>
            <a:off x="539640" y="566100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4" descr="X:\11_Тихонов\2012\презент2012\221974-3d-Teeny-Person-With-A-Check-Mark-2.jpg"/>
          <p:cNvPicPr/>
          <p:nvPr/>
        </p:nvPicPr>
        <p:blipFill>
          <a:blip r:embed="rId9"/>
          <a:srcRect l="0" t="0" r="0" b="22349"/>
          <a:stretch/>
        </p:blipFill>
        <p:spPr>
          <a:xfrm>
            <a:off x="539640" y="6058080"/>
            <a:ext cx="360360" cy="24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0.23657 L 1.66667E-006 0.02014 E">
                                      <p:cBhvr>
                                        <p:cTn id="11" dur="1000" fill="hold"/>
                                        <p:tgtEl>
                                          <p:spTgt spid="1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25671 L -0.01927 0.01666 E">
                                      <p:cBhvr>
                                        <p:cTn id="19" dur="1000" fill="hold"/>
                                        <p:tgtEl>
                                          <p:spTgt spid="1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9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атематика – линейк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, химия –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, география – линейка,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197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1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83" name="TextBox 6"/>
          <p:cNvSpPr/>
          <p:nvPr/>
        </p:nvSpPr>
        <p:spPr>
          <a:xfrm>
            <a:off x="395280" y="692280"/>
            <a:ext cx="806436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Box 10"/>
          <p:cNvSpPr/>
          <p:nvPr/>
        </p:nvSpPr>
        <p:spPr>
          <a:xfrm>
            <a:off x="298440" y="3716280"/>
            <a:ext cx="84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ься иными предметами или средствами, не допущенными Рособрнадзором к использованию в ППЭ во время экзамена, не только в аудитории, но и во всем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6"/>
          <p:cNvSpPr/>
          <p:nvPr/>
        </p:nvSpPr>
        <p:spPr>
          <a:xfrm>
            <a:off x="298440" y="10764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ариваться, меняться местами, любыми материалами и предм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Группа 1"/>
          <p:cNvGrpSpPr/>
          <p:nvPr/>
        </p:nvGrpSpPr>
        <p:grpSpPr>
          <a:xfrm>
            <a:off x="3780000" y="1989000"/>
            <a:ext cx="1052280" cy="1379520"/>
            <a:chOff x="3780000" y="1989000"/>
            <a:chExt cx="1052280" cy="1379520"/>
          </a:xfrm>
        </p:grpSpPr>
        <p:pic>
          <p:nvPicPr>
            <p:cNvPr id="1987" name="Picture 12" descr="D:\!МолодыеТихоновы-Е.В\!Работа-сделать\РЦОИ\1088118-Clipart-3d-Teeny-White-Person-Talking-On-Two-Phones-Royalty-Free-CGI-Illustration.jpg"/>
            <p:cNvPicPr/>
            <p:nvPr/>
          </p:nvPicPr>
          <p:blipFill>
            <a:blip r:embed="rId3"/>
            <a:srcRect l="0" t="0" r="5591" b="1573"/>
            <a:stretch/>
          </p:blipFill>
          <p:spPr>
            <a:xfrm>
              <a:off x="3780000" y="1989000"/>
              <a:ext cx="105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0" descr="D:\!МолодыеТихоновы-Е.В\!Работа-сделать\РЦОИ\17693_732062542_medium.jpg"/>
            <p:cNvPicPr/>
            <p:nvPr/>
          </p:nvPicPr>
          <p:blipFill>
            <a:blip r:embed="rId4"/>
            <a:stretch/>
          </p:blipFill>
          <p:spPr>
            <a:xfrm>
              <a:off x="3980520" y="2035800"/>
              <a:ext cx="6156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9" name="Picture 11" descr="D:\!МолодыеТихоновы-Е.В\!Работа-сделать\РЦОИ\pinac2.jpg"/>
          <p:cNvPicPr/>
          <p:nvPr/>
        </p:nvPicPr>
        <p:blipFill>
          <a:blip r:embed="rId5"/>
          <a:stretch/>
        </p:blipFill>
        <p:spPr>
          <a:xfrm>
            <a:off x="5364000" y="1878120"/>
            <a:ext cx="1128960" cy="11206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4" descr="D:\!МолодыеТихоновы-Е.В\!Работа-сделать\РЦОИ\223007-3d-Teeny-Person-Thinking-Over-A-Prohibited-Sign.jpg"/>
          <p:cNvPicPr/>
          <p:nvPr/>
        </p:nvPicPr>
        <p:blipFill>
          <a:blip r:embed="rId6"/>
          <a:srcRect l="0" t="0" r="0" b="10005"/>
          <a:stretch/>
        </p:blipFill>
        <p:spPr>
          <a:xfrm>
            <a:off x="900000" y="2284560"/>
            <a:ext cx="1368360" cy="1396800"/>
          </a:xfrm>
          <a:prstGeom prst="rect">
            <a:avLst/>
          </a:prstGeom>
          <a:ln w="0">
            <a:noFill/>
          </a:ln>
        </p:spPr>
      </p:pic>
      <p:sp>
        <p:nvSpPr>
          <p:cNvPr id="1991" name="TextBox 6"/>
          <p:cNvSpPr/>
          <p:nvPr/>
        </p:nvSpPr>
        <p:spPr>
          <a:xfrm>
            <a:off x="3125880" y="106992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обильную и иную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6"/>
          <p:cNvSpPr/>
          <p:nvPr/>
        </p:nvSpPr>
        <p:spPr>
          <a:xfrm>
            <a:off x="5861160" y="105264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и фото и видео съемку, звуко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Группа 33"/>
          <p:cNvGrpSpPr/>
          <p:nvPr/>
        </p:nvGrpSpPr>
        <p:grpSpPr>
          <a:xfrm>
            <a:off x="7723080" y="1916280"/>
            <a:ext cx="1062000" cy="1120680"/>
            <a:chOff x="7723080" y="1916280"/>
            <a:chExt cx="1062000" cy="1120680"/>
          </a:xfrm>
        </p:grpSpPr>
        <p:pic>
          <p:nvPicPr>
            <p:cNvPr id="1994" name="Picture 13" descr="D:\!МолодыеТихоновы-Е.В\!Работа-сделать\РЦОИ\1088009-3d-Teeny-White-Person-Camera-Man.jpg"/>
            <p:cNvPicPr/>
            <p:nvPr/>
          </p:nvPicPr>
          <p:blipFill>
            <a:blip r:embed="rId7"/>
            <a:srcRect l="0" t="0" r="4743" b="13523"/>
            <a:stretch/>
          </p:blipFill>
          <p:spPr>
            <a:xfrm>
              <a:off x="7732800" y="1916280"/>
              <a:ext cx="1052280" cy="112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5" name="Группа 6"/>
            <p:cNvGrpSpPr/>
            <p:nvPr/>
          </p:nvGrpSpPr>
          <p:grpSpPr>
            <a:xfrm>
              <a:off x="7723080" y="1937520"/>
              <a:ext cx="1028520" cy="1010160"/>
              <a:chOff x="7723080" y="1937520"/>
              <a:chExt cx="1028520" cy="1010160"/>
            </a:xfrm>
          </p:grpSpPr>
          <p:sp>
            <p:nvSpPr>
              <p:cNvPr id="1996" name="Овал 2"/>
              <p:cNvSpPr/>
              <p:nvPr/>
            </p:nvSpPr>
            <p:spPr>
              <a:xfrm>
                <a:off x="7723080" y="1937520"/>
                <a:ext cx="1028520" cy="101016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Прямая соединительная линия 4"/>
              <p:cNvSpPr/>
              <p:nvPr/>
            </p:nvSpPr>
            <p:spPr>
              <a:xfrm>
                <a:off x="7873560" y="2084760"/>
                <a:ext cx="727200" cy="7153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8" name="Прямая соединительная линия 12"/>
          <p:cNvSpPr/>
          <p:nvPr/>
        </p:nvSpPr>
        <p:spPr>
          <a:xfrm>
            <a:off x="515880" y="458136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16" descr="D:\!МолодыеТихоновы-Е.В\!Работа-сделать\РЦОИ\1088106-3d-Teeny-White-Person-Going-To-The-Restroom.jpg"/>
          <p:cNvPicPr/>
          <p:nvPr/>
        </p:nvPicPr>
        <p:blipFill>
          <a:blip r:embed="rId8"/>
          <a:srcRect l="0" t="0" r="0" b="10288"/>
          <a:stretch/>
        </p:blipFill>
        <p:spPr>
          <a:xfrm>
            <a:off x="2519280" y="4761000"/>
            <a:ext cx="828720" cy="842760"/>
          </a:xfrm>
          <a:prstGeom prst="rect">
            <a:avLst/>
          </a:prstGeom>
          <a:ln w="0">
            <a:noFill/>
          </a:ln>
        </p:spPr>
      </p:pic>
      <p:sp>
        <p:nvSpPr>
          <p:cNvPr id="2000" name="Прямоугольник 28"/>
          <p:cNvSpPr/>
          <p:nvPr/>
        </p:nvSpPr>
        <p:spPr>
          <a:xfrm>
            <a:off x="395280" y="692280"/>
            <a:ext cx="8064360" cy="36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Группа 32"/>
          <p:cNvGrpSpPr/>
          <p:nvPr/>
        </p:nvGrpSpPr>
        <p:grpSpPr>
          <a:xfrm>
            <a:off x="6561000" y="2643120"/>
            <a:ext cx="1028880" cy="1079640"/>
            <a:chOff x="6561000" y="2643120"/>
            <a:chExt cx="1028880" cy="1079640"/>
          </a:xfrm>
        </p:grpSpPr>
        <p:pic>
          <p:nvPicPr>
            <p:cNvPr id="2002" name="Picture 2" descr="X:\11_Тихонов\2012\презент2012\221960-3d-Teeny-Person-Using-A-Microphone-1.jpg"/>
            <p:cNvPicPr/>
            <p:nvPr/>
          </p:nvPicPr>
          <p:blipFill>
            <a:blip r:embed="rId9"/>
            <a:srcRect l="0" t="0" r="12020" b="0"/>
            <a:stretch/>
          </p:blipFill>
          <p:spPr>
            <a:xfrm>
              <a:off x="6660000" y="2692080"/>
              <a:ext cx="804960" cy="10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3" name="Группа 6"/>
            <p:cNvGrpSpPr/>
            <p:nvPr/>
          </p:nvGrpSpPr>
          <p:grpSpPr>
            <a:xfrm>
              <a:off x="6561000" y="2643120"/>
              <a:ext cx="1028880" cy="1009800"/>
              <a:chOff x="6561000" y="2643120"/>
              <a:chExt cx="1028880" cy="1009800"/>
            </a:xfrm>
          </p:grpSpPr>
          <p:sp>
            <p:nvSpPr>
              <p:cNvPr id="2004" name="Овал 30"/>
              <p:cNvSpPr/>
              <p:nvPr/>
            </p:nvSpPr>
            <p:spPr>
              <a:xfrm>
                <a:off x="6561000" y="2643120"/>
                <a:ext cx="1028880" cy="100980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Прямая соединительная линия 31"/>
              <p:cNvSpPr/>
              <p:nvPr/>
            </p:nvSpPr>
            <p:spPr>
              <a:xfrm>
                <a:off x="6711840" y="2790720"/>
                <a:ext cx="727200" cy="714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6" name="Picture 3" descr="X:\11_Тихонов\2012\презент2012\1087780-3d-Teeny-White-Paramedics-Loading-A-Person-Into-An-Ambulance.jpg"/>
          <p:cNvPicPr/>
          <p:nvPr/>
        </p:nvPicPr>
        <p:blipFill>
          <a:blip r:embed="rId10"/>
          <a:srcRect l="0" t="4795" r="1682" b="11360"/>
          <a:stretch/>
        </p:blipFill>
        <p:spPr>
          <a:xfrm>
            <a:off x="539640" y="4640400"/>
            <a:ext cx="1440000" cy="108720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7"/>
          <p:cNvSpPr/>
          <p:nvPr/>
        </p:nvSpPr>
        <p:spPr>
          <a:xfrm>
            <a:off x="4284720" y="46893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йти можно по уважительным причинам и только в сопровождении дежу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7"/>
          <p:cNvSpPr/>
          <p:nvPr/>
        </p:nvSpPr>
        <p:spPr>
          <a:xfrm>
            <a:off x="179280" y="5904000"/>
            <a:ext cx="88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ы нарушите установленные правила, Вас могут удалить с экза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Picture 2" descr="X:\11_Тихонов\2012\презент2012\221982-3d-Teeny-Person-With-A-Red-Exclamation-Point.jpg"/>
          <p:cNvPicPr/>
          <p:nvPr/>
        </p:nvPicPr>
        <p:blipFill>
          <a:blip r:embed="rId1"/>
          <a:srcRect l="0" t="0" r="14855" b="0"/>
          <a:stretch/>
        </p:blipFill>
        <p:spPr>
          <a:xfrm>
            <a:off x="5102280" y="6058080"/>
            <a:ext cx="298440" cy="3934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22" descr="G:\РЦОИ\2012\презент2012\1088557-3d-Teeny-White-Person-Walking-Towards-An-Open-Door.jpg"/>
          <p:cNvPicPr/>
          <p:nvPr/>
        </p:nvPicPr>
        <p:blipFill>
          <a:blip r:embed="rId2"/>
          <a:srcRect l="0" t="0" r="0" b="14791"/>
          <a:stretch/>
        </p:blipFill>
        <p:spPr>
          <a:xfrm>
            <a:off x="123840" y="620640"/>
            <a:ext cx="1336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01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1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1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18" name="TextBox 10"/>
          <p:cNvSpPr/>
          <p:nvPr/>
        </p:nvSpPr>
        <p:spPr>
          <a:xfrm>
            <a:off x="298440" y="30337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хватке места для записи ответов на задания части С можно попросить у организатора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бланк ответов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Прямая соединительная линия 12"/>
          <p:cNvSpPr/>
          <p:nvPr/>
        </p:nvSpPr>
        <p:spPr>
          <a:xfrm>
            <a:off x="515880" y="270828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7"/>
          <p:cNvSpPr/>
          <p:nvPr/>
        </p:nvSpPr>
        <p:spPr>
          <a:xfrm>
            <a:off x="1403280" y="65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ходе из аудитории во время экзамена  бланки остаются на столе обучающегося, организатор визуально смотрит, со стола ничего не бе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2" descr="X:\11_Тихонов\2012\презент2012\221982-3d-Teeny-Person-With-A-Red-Exclamation-Point.jpg"/>
          <p:cNvPicPr/>
          <p:nvPr/>
        </p:nvPicPr>
        <p:blipFill>
          <a:blip r:embed="rId5"/>
          <a:srcRect l="0" t="0" r="14855" b="0"/>
          <a:stretch/>
        </p:blipFill>
        <p:spPr>
          <a:xfrm>
            <a:off x="7740720" y="762120"/>
            <a:ext cx="1165320" cy="1542960"/>
          </a:xfrm>
          <a:prstGeom prst="rect">
            <a:avLst/>
          </a:prstGeom>
          <a:ln w="0">
            <a:noFill/>
          </a:ln>
        </p:spPr>
      </p:pic>
      <p:sp>
        <p:nvSpPr>
          <p:cNvPr id="2022" name="Прямоугольник 36"/>
          <p:cNvSpPr/>
          <p:nvPr/>
        </p:nvSpPr>
        <p:spPr>
          <a:xfrm>
            <a:off x="1079640" y="44737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экзамена все участники должны сд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Picture 2" descr="X:\11_Тихонов\2012\презент2012\1088555-3d-Teeny-White-Person-Reading-A-Long-List.jpg"/>
          <p:cNvPicPr/>
          <p:nvPr/>
        </p:nvPicPr>
        <p:blipFill>
          <a:blip r:embed="rId6"/>
          <a:srcRect l="0" t="0" r="0" b="13747"/>
          <a:stretch/>
        </p:blipFill>
        <p:spPr>
          <a:xfrm>
            <a:off x="6389640" y="3033720"/>
            <a:ext cx="1517760" cy="1160280"/>
          </a:xfrm>
          <a:prstGeom prst="rect">
            <a:avLst/>
          </a:prstGeom>
          <a:ln w="0">
            <a:noFill/>
          </a:ln>
        </p:spPr>
      </p:pic>
      <p:sp>
        <p:nvSpPr>
          <p:cNvPr id="2024" name="Прямоугольник 37"/>
          <p:cNvSpPr/>
          <p:nvPr/>
        </p:nvSpPr>
        <p:spPr>
          <a:xfrm>
            <a:off x="670320" y="4932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Прямоугольник 39"/>
          <p:cNvSpPr/>
          <p:nvPr/>
        </p:nvSpPr>
        <p:spPr>
          <a:xfrm>
            <a:off x="731880" y="53942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 и К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3" descr="X:\11_Тихонов\2012\презент2012\221715-3d-Teeny-Person-Carrying-A-Blue-House.jpg"/>
          <p:cNvPicPr/>
          <p:nvPr/>
        </p:nvPicPr>
        <p:blipFill>
          <a:blip r:embed="rId7"/>
          <a:srcRect l="0" t="0" r="11381" b="7842"/>
          <a:stretch/>
        </p:blipFill>
        <p:spPr>
          <a:xfrm>
            <a:off x="3182760" y="5013360"/>
            <a:ext cx="776520" cy="91116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15"/>
          <a:stretch/>
        </p:blipFill>
        <p:spPr>
          <a:xfrm>
            <a:off x="360360" y="4384800"/>
            <a:ext cx="719280" cy="495000"/>
          </a:xfrm>
          <a:prstGeom prst="rect">
            <a:avLst/>
          </a:prstGeom>
          <a:ln w="0">
            <a:noFill/>
          </a:ln>
        </p:spPr>
      </p:pic>
      <p:sp>
        <p:nvSpPr>
          <p:cNvPr id="2028" name="Прямоугольник 42"/>
          <p:cNvSpPr/>
          <p:nvPr/>
        </p:nvSpPr>
        <p:spPr>
          <a:xfrm>
            <a:off x="34920" y="5807160"/>
            <a:ext cx="90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даче материалов необходимо расписаться в ведо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7"/>
          <p:cNvSpPr/>
          <p:nvPr/>
        </p:nvSpPr>
        <p:spPr>
          <a:xfrm>
            <a:off x="792000" y="1604880"/>
            <a:ext cx="68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кзамен не завершен по уважительной причине, то решение о его пересдаче выносит государственная экзаменационная комиссия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Прямая соединительная линия 21"/>
          <p:cNvSpPr/>
          <p:nvPr/>
        </p:nvSpPr>
        <p:spPr>
          <a:xfrm>
            <a:off x="515880" y="441000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32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38" name="TextBox 10"/>
          <p:cNvSpPr/>
          <p:nvPr/>
        </p:nvSpPr>
        <p:spPr>
          <a:xfrm>
            <a:off x="826920" y="3429000"/>
            <a:ext cx="8315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сбора экзаменационных материалов организаторы в аудиториях пересчитывают бланки и запечатывают их в специальные доставочные пакеты (конв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Прямоугольник 36"/>
          <p:cNvSpPr/>
          <p:nvPr/>
        </p:nvSpPr>
        <p:spPr>
          <a:xfrm>
            <a:off x="298440" y="800280"/>
            <a:ext cx="73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ать экзаменационные материалы можно раньше, если все выполнено, но не позднее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инут до конца самого эк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7907400" y="804960"/>
            <a:ext cx="841320" cy="1114200"/>
          </a:xfrm>
          <a:prstGeom prst="rect">
            <a:avLst/>
          </a:prstGeom>
          <a:ln w="0">
            <a:noFill/>
          </a:ln>
        </p:spPr>
      </p:pic>
      <p:sp>
        <p:nvSpPr>
          <p:cNvPr id="2041" name="Прямоугольник 20"/>
          <p:cNvSpPr/>
          <p:nvPr/>
        </p:nvSpPr>
        <p:spPr>
          <a:xfrm>
            <a:off x="108000" y="2457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рганизаторы самостоятельно собирают экзаменацион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X:\11_Тихонов\2012\презент2012\221720-3d-Teeny-Person-Carrying-A-Box.jpg"/>
          <p:cNvPicPr/>
          <p:nvPr/>
        </p:nvPicPr>
        <p:blipFill>
          <a:blip r:embed="rId4"/>
          <a:srcRect l="0" t="0" r="0" b="9738"/>
          <a:stretch/>
        </p:blipFill>
        <p:spPr>
          <a:xfrm>
            <a:off x="3598920" y="5054760"/>
            <a:ext cx="1298520" cy="132696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3" descr="X:\11_Тихонов\2012\презент2012\1087249-3d-Teeny-White-Teenage-Person-Stepping-On-Notebooks.jpg"/>
          <p:cNvPicPr/>
          <p:nvPr/>
        </p:nvPicPr>
        <p:blipFill>
          <a:blip r:embed="rId5"/>
          <a:srcRect l="0" t="0" r="0" b="11606"/>
          <a:stretch/>
        </p:blipFill>
        <p:spPr>
          <a:xfrm>
            <a:off x="3598920" y="170028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1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дном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из обязательных предметов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русский язык или математика), то он может пересдать этот экзамен в этом же году в резервные дн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954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В 9 классе могут повторно сдать экзамены обучающиеся, получившие неудовлетворительные результаты по двум учебным предметам в резервные дн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кже допускаются к пересдаче в 9 и 11 классах обучающиеся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явившиеся на экзамены по уважительным причинам (болезнь или иные обстоятельства, подтвержденные документально)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завершившие выполнение экзаменационной работы  по уважительным причинам (болезнь или иные обстоятельства, подтвержденные документально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ssandra"/>
              </a:rPr>
              <a:t>Апелляц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пелляция – это письменное заявление участника ГИА либо о нарушении установленного порядка проведения ЕГЭ, ОГЭ; либо о несогласии с результатами ЕГЭ, ОГЭ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5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Экзамен проходил с нарушениями? Результат по баллам не удовлетворил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57" name="TextBox 7"/>
          <p:cNvSpPr/>
          <p:nvPr/>
        </p:nvSpPr>
        <p:spPr>
          <a:xfrm>
            <a:off x="3581280" y="652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0"/>
          <p:cNvSpPr/>
          <p:nvPr/>
        </p:nvSpPr>
        <p:spPr>
          <a:xfrm>
            <a:off x="1368360" y="15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Box 11"/>
          <p:cNvSpPr/>
          <p:nvPr/>
        </p:nvSpPr>
        <p:spPr>
          <a:xfrm>
            <a:off x="575928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бал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Прямоугольник 1"/>
          <p:cNvSpPr/>
          <p:nvPr/>
        </p:nvSpPr>
        <p:spPr>
          <a:xfrm>
            <a:off x="306360" y="22417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и установленного порядка провед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Прямоугольник 13"/>
          <p:cNvSpPr/>
          <p:nvPr/>
        </p:nvSpPr>
        <p:spPr>
          <a:xfrm>
            <a:off x="304920" y="4157640"/>
            <a:ext cx="36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бланков ЕГ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ыхода из ППЭ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лномоченному представителю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Прямоугольник 14"/>
          <p:cNvSpPr/>
          <p:nvPr/>
        </p:nvSpPr>
        <p:spPr>
          <a:xfrm>
            <a:off x="4429080" y="4157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двух рабочих дней после официального объявления результатов экзамена, руководителю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4200480" y="1233360"/>
            <a:ext cx="839880" cy="1113120"/>
          </a:xfrm>
          <a:prstGeom prst="rect">
            <a:avLst/>
          </a:prstGeom>
          <a:ln w="0">
            <a:noFill/>
          </a:ln>
        </p:spPr>
      </p:pic>
      <p:sp>
        <p:nvSpPr>
          <p:cNvPr id="2064" name="Дуга 20"/>
          <p:cNvSpPr/>
          <p:nvPr/>
        </p:nvSpPr>
        <p:spPr>
          <a:xfrm>
            <a:off x="4500720" y="879480"/>
            <a:ext cx="2232000" cy="1325520"/>
          </a:xfrm>
          <a:custGeom>
            <a:avLst/>
            <a:gdLst/>
            <a:ahLst/>
            <a:rect l="l" t="t" r="r" b="b"/>
            <a:pathLst>
              <a:path stroke="0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  <a:lnTo>
                  <a:pt x="1116013" y="662782"/>
                </a:lnTo>
                <a:cubicBezTo>
                  <a:pt x="1116013" y="441855"/>
                  <a:pt x="1116012" y="220927"/>
                  <a:pt x="1116012" y="0"/>
                </a:cubicBezTo>
                <a:close/>
              </a:path>
              <a:path fill="none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</a:path>
            </a:pathLst>
          </a:custGeom>
          <a:noFill/>
          <a:ln w="44280">
            <a:solidFill>
              <a:srgbClr val="c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Дуга 21"/>
          <p:cNvSpPr/>
          <p:nvPr/>
        </p:nvSpPr>
        <p:spPr>
          <a:xfrm flipH="1">
            <a:off x="2267640" y="879480"/>
            <a:ext cx="2303640" cy="1440000"/>
          </a:xfrm>
          <a:custGeom>
            <a:avLst/>
            <a:gdLst/>
            <a:ahLst/>
            <a:rect l="l" t="t" r="r" b="b"/>
            <a:pathLst>
              <a:path stroke="0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  <a:lnTo>
                  <a:pt x="1151731" y="719932"/>
                </a:lnTo>
                <a:lnTo>
                  <a:pt x="1151731" y="0"/>
                </a:lnTo>
                <a:close/>
              </a:path>
              <a:path fill="none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Прямоугольник 1"/>
          <p:cNvSpPr/>
          <p:nvPr/>
        </p:nvSpPr>
        <p:spPr>
          <a:xfrm>
            <a:off x="5329080" y="2205000"/>
            <a:ext cx="33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ами) по ЕГЭ и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7"/>
          <p:cNvSpPr/>
          <p:nvPr/>
        </p:nvSpPr>
        <p:spPr>
          <a:xfrm>
            <a:off x="304920" y="5718240"/>
            <a:ext cx="83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заседании Конфликтной комиссии принимаются решения об отклонении или удовлетворении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7"/>
          <p:cNvSpPr/>
          <p:nvPr/>
        </p:nvSpPr>
        <p:spPr>
          <a:xfrm>
            <a:off x="3581280" y="3429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AutoShape 17"/>
          <p:cNvSpPr/>
          <p:nvPr/>
        </p:nvSpPr>
        <p:spPr>
          <a:xfrm rot="16200000">
            <a:off x="2126160" y="3774240"/>
            <a:ext cx="300240" cy="161640"/>
          </a:xfrm>
          <a:prstGeom prst="leftArrow">
            <a:avLst>
              <a:gd name="adj1" fmla="val 50000"/>
              <a:gd name="adj2" fmla="val 4365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7"/>
          <p:cNvSpPr/>
          <p:nvPr/>
        </p:nvSpPr>
        <p:spPr>
          <a:xfrm rot="16200000">
            <a:off x="6582600" y="3774240"/>
            <a:ext cx="300240" cy="162000"/>
          </a:xfrm>
          <a:prstGeom prst="leftArrow">
            <a:avLst>
              <a:gd name="adj1" fmla="val 50000"/>
              <a:gd name="adj2" fmla="val 435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autoRev="1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6" dur="1000" fill="hold"/>
                                        <p:tgtEl>
                                          <p:spTgt spid="2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8" dur="1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формой ГИА-9 является ОГ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обучающихся с ОВЗ, детей-инвалидов и инвалидов итоговая аттестация проводится в форме ГВ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проведения ЕГЭ и ОГЭ составляетс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диное расписание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Результаты  рассмотрения апелляции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X:\11_Тихонов\2012\презент2012\1087186-3d-Teeny-White-Person-Typing-On-A-Keyboard-By-WWW.jpg"/>
          <p:cNvPicPr/>
          <p:nvPr/>
        </p:nvPicPr>
        <p:blipFill>
          <a:blip r:embed="rId1"/>
          <a:srcRect l="0" t="0" r="0" b="14614"/>
          <a:stretch/>
        </p:blipFill>
        <p:spPr>
          <a:xfrm>
            <a:off x="6788160" y="476280"/>
            <a:ext cx="19051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074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7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осмотреть  и ознакомиться с информацией по ЕГЭ и ОГЭ можно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1" name="Rectangle 1"/>
          <p:cNvSpPr/>
          <p:nvPr/>
        </p:nvSpPr>
        <p:spPr>
          <a:xfrm>
            <a:off x="287280" y="1360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фициальном информационном портале ЕГЭ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ww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stest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Прямоугольник 10"/>
          <p:cNvSpPr/>
          <p:nvPr/>
        </p:nvSpPr>
        <p:spPr>
          <a:xfrm>
            <a:off x="287280" y="3944880"/>
            <a:ext cx="856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Государственного бюджетного учреждения Ростовской области Ростовского  центра обработки информации в сфере образования (далее – РО ЦОИСО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coiso@rost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Кашарского отдела образования администрации Кашарского район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kasharsk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Заголовок 3" descr=""/>
          <p:cNvPicPr/>
          <p:nvPr/>
        </p:nvPicPr>
        <p:blipFill>
          <a:blip r:embed="rId1"/>
          <a:stretch/>
        </p:blipFill>
        <p:spPr>
          <a:xfrm>
            <a:off x="1243080" y="128592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4" name="Диаграмма 4"/>
          <p:cNvGraphicFramePr/>
          <p:nvPr/>
        </p:nvGraphicFramePr>
        <p:xfrm>
          <a:off x="985680" y="1760400"/>
          <a:ext cx="419760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5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760400"/>
                    <a:ext cx="41976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6" name="Picture 4" descr="C:\Users\kadach_tg\Desktop\142237_mobile_512x512.png"/>
          <p:cNvPicPr/>
          <p:nvPr/>
        </p:nvPicPr>
        <p:blipFill>
          <a:blip r:embed="rId4"/>
          <a:stretch/>
        </p:blipFill>
        <p:spPr>
          <a:xfrm rot="20370000">
            <a:off x="5241600" y="360324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6" descr="C:\Users\kadach_tg\Desktop\0_1146b0_759023cd_S.png"/>
          <p:cNvPicPr/>
          <p:nvPr/>
        </p:nvPicPr>
        <p:blipFill>
          <a:blip r:embed="rId5"/>
          <a:stretch/>
        </p:blipFill>
        <p:spPr>
          <a:xfrm rot="354600">
            <a:off x="4711320" y="4906800"/>
            <a:ext cx="765360" cy="83052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7" descr="C:\Users\kadach_tg\Desktop\5a8ad4ab9ea93161ae4ebe82.png"/>
          <p:cNvPicPr/>
          <p:nvPr/>
        </p:nvPicPr>
        <p:blipFill>
          <a:blip r:embed="rId6"/>
          <a:stretch/>
        </p:blipFill>
        <p:spPr>
          <a:xfrm>
            <a:off x="4789440" y="5010120"/>
            <a:ext cx="514440" cy="609480"/>
          </a:xfrm>
          <a:prstGeom prst="rect">
            <a:avLst/>
          </a:prstGeom>
          <a:ln w="0">
            <a:noFill/>
          </a:ln>
        </p:spPr>
      </p:pic>
      <p:cxnSp>
        <p:nvCxnSpPr>
          <p:cNvPr id="2089" name="Соединительная линия уступом 15"/>
          <p:cNvCxnSpPr>
            <a:stCxn id="2086" idx="1"/>
          </p:cNvCxnSpPr>
          <p:nvPr/>
        </p:nvCxnSpPr>
        <p:spPr>
          <a:xfrm rot="10800000">
            <a:off x="4193280" y="3493440"/>
            <a:ext cx="1072440" cy="627840"/>
          </a:xfrm>
          <a:prstGeom prst="bentConnector3">
            <a:avLst>
              <a:gd name="adj1" fmla="val 39758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090" name="Соединительная линия уступом 21"/>
          <p:cNvCxnSpPr>
            <a:stCxn id="2087" idx="1"/>
          </p:cNvCxnSpPr>
          <p:nvPr/>
        </p:nvCxnSpPr>
        <p:spPr>
          <a:xfrm rot="10800000">
            <a:off x="3276000" y="4868280"/>
            <a:ext cx="1437120" cy="415080"/>
          </a:xfrm>
          <a:prstGeom prst="bentConnector3">
            <a:avLst>
              <a:gd name="adj1" fmla="val 100225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091" name="Прямоугольник 49"/>
          <p:cNvSpPr/>
          <p:nvPr/>
        </p:nvSpPr>
        <p:spPr>
          <a:xfrm>
            <a:off x="6081840" y="3925800"/>
            <a:ext cx="191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Донец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51"/>
          <p:cNvSpPr/>
          <p:nvPr/>
        </p:nvSpPr>
        <p:spPr>
          <a:xfrm>
            <a:off x="5516640" y="5227560"/>
            <a:ext cx="24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Азовский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55"/>
          <p:cNvSpPr/>
          <p:nvPr/>
        </p:nvSpPr>
        <p:spPr>
          <a:xfrm>
            <a:off x="5516640" y="4653000"/>
            <a:ext cx="2496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Ворошиловский 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Заголовок 3" descr=""/>
          <p:cNvPicPr/>
          <p:nvPr/>
        </p:nvPicPr>
        <p:blipFill>
          <a:blip r:embed="rId7"/>
          <a:stretch/>
        </p:blipFill>
        <p:spPr>
          <a:xfrm>
            <a:off x="5327640" y="2084400"/>
            <a:ext cx="3225960" cy="646200"/>
          </a:xfrm>
          <a:prstGeom prst="rect">
            <a:avLst/>
          </a:prstGeom>
          <a:ln w="0">
            <a:noFill/>
          </a:ln>
        </p:spPr>
      </p:pic>
      <p:sp>
        <p:nvSpPr>
          <p:cNvPr id="2095" name="Прямоугольник 63"/>
          <p:cNvSpPr/>
          <p:nvPr/>
        </p:nvSpPr>
        <p:spPr>
          <a:xfrm>
            <a:off x="5303880" y="2581200"/>
            <a:ext cx="3267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далены за наличие запрещенных средств с повторным допу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 сдаче ГИА-9 в сентябрьски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6" name="Заголовок 3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7" name="Диаграмма 4"/>
          <p:cNvGraphicFramePr/>
          <p:nvPr/>
        </p:nvGraphicFramePr>
        <p:xfrm>
          <a:off x="1452600" y="1596960"/>
          <a:ext cx="3808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596960"/>
                    <a:ext cx="3808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9" name="Picture 3" descr="C:\Users\kadach_tg\Desktop\calculator_yellow.png"/>
          <p:cNvPicPr/>
          <p:nvPr/>
        </p:nvPicPr>
        <p:blipFill>
          <a:blip r:embed="rId4"/>
          <a:stretch/>
        </p:blipFill>
        <p:spPr>
          <a:xfrm rot="20838600">
            <a:off x="1440000" y="1722600"/>
            <a:ext cx="628560" cy="671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C:\Users\kadach_tg\Desktop\142237_mobile_512x512.png"/>
          <p:cNvPicPr/>
          <p:nvPr/>
        </p:nvPicPr>
        <p:blipFill>
          <a:blip r:embed="rId5"/>
          <a:stretch/>
        </p:blipFill>
        <p:spPr>
          <a:xfrm rot="20370000">
            <a:off x="4156200" y="3623760"/>
            <a:ext cx="768240" cy="766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6" descr="C:\Users\kadach_tg\Desktop\0_1146b0_759023cd_S.png"/>
          <p:cNvPicPr/>
          <p:nvPr/>
        </p:nvPicPr>
        <p:blipFill>
          <a:blip r:embed="rId6"/>
          <a:stretch/>
        </p:blipFill>
        <p:spPr>
          <a:xfrm rot="354600">
            <a:off x="1329840" y="3559320"/>
            <a:ext cx="765360" cy="8301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7" descr="C:\Users\kadach_tg\Desktop\5a8ad4ab9ea93161ae4ebe82.png"/>
          <p:cNvPicPr/>
          <p:nvPr/>
        </p:nvPicPr>
        <p:blipFill>
          <a:blip r:embed="rId7"/>
          <a:stretch/>
        </p:blipFill>
        <p:spPr>
          <a:xfrm>
            <a:off x="1407960" y="3662280"/>
            <a:ext cx="514440" cy="609840"/>
          </a:xfrm>
          <a:prstGeom prst="rect">
            <a:avLst/>
          </a:prstGeom>
          <a:ln w="0">
            <a:noFill/>
          </a:ln>
        </p:spPr>
      </p:pic>
      <p:cxnSp>
        <p:nvCxnSpPr>
          <p:cNvPr id="2103" name="Соединительная линия уступом 6"/>
          <p:cNvCxnSpPr>
            <a:stCxn id="2099" idx="3"/>
          </p:cNvCxnSpPr>
          <p:nvPr/>
        </p:nvCxnSpPr>
        <p:spPr>
          <a:xfrm>
            <a:off x="2131920" y="1766520"/>
            <a:ext cx="766080" cy="244800"/>
          </a:xfrm>
          <a:prstGeom prst="bentConnector3">
            <a:avLst>
              <a:gd name="adj1" fmla="val 101316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4" name="Соединительная линия уступом 15"/>
          <p:cNvCxnSpPr/>
          <p:nvPr/>
        </p:nvCxnSpPr>
        <p:spPr>
          <a:xfrm flipV="1" rot="16200000">
            <a:off x="4149360" y="3037680"/>
            <a:ext cx="480240" cy="473760"/>
          </a:xfrm>
          <a:prstGeom prst="bentConnector3">
            <a:avLst>
              <a:gd name="adj1" fmla="val 99549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5" name="Соединительная линия уступом 21"/>
          <p:cNvCxnSpPr>
            <a:stCxn id="2102" idx="0"/>
          </p:cNvCxnSpPr>
          <p:nvPr/>
        </p:nvCxnSpPr>
        <p:spPr>
          <a:xfrm flipH="1" flipV="1" rot="5400000">
            <a:off x="1802160" y="3260160"/>
            <a:ext cx="264240" cy="540360"/>
          </a:xfrm>
          <a:prstGeom prst="bentConnector2">
            <a:avLst/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106" name="Прямоугольник 45"/>
          <p:cNvSpPr/>
          <p:nvPr/>
        </p:nvSpPr>
        <p:spPr>
          <a:xfrm>
            <a:off x="5425920" y="4017960"/>
            <a:ext cx="1822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кс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Овал 1037"/>
          <p:cNvGrpSpPr/>
          <p:nvPr/>
        </p:nvGrpSpPr>
        <p:grpSpPr>
          <a:xfrm>
            <a:off x="7338960" y="3943440"/>
            <a:ext cx="488880" cy="420480"/>
            <a:chOff x="7338960" y="3943440"/>
            <a:chExt cx="488880" cy="420480"/>
          </a:xfrm>
        </p:grpSpPr>
        <p:pic>
          <p:nvPicPr>
            <p:cNvPr id="2108" name="Овал 1037" descr=""/>
            <p:cNvPicPr/>
            <p:nvPr/>
          </p:nvPicPr>
          <p:blipFill>
            <a:blip r:embed="rId8"/>
            <a:stretch/>
          </p:blipFill>
          <p:spPr>
            <a:xfrm>
              <a:off x="7338960" y="39434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>
              <a:off x="7426440" y="402264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Прямоугольник 47"/>
          <p:cNvSpPr/>
          <p:nvPr/>
        </p:nvSpPr>
        <p:spPr>
          <a:xfrm>
            <a:off x="4778280" y="455292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станти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Овал 48"/>
          <p:cNvGrpSpPr/>
          <p:nvPr/>
        </p:nvGrpSpPr>
        <p:grpSpPr>
          <a:xfrm>
            <a:off x="7338960" y="4479840"/>
            <a:ext cx="488880" cy="420840"/>
            <a:chOff x="7338960" y="4479840"/>
            <a:chExt cx="488880" cy="420840"/>
          </a:xfrm>
        </p:grpSpPr>
        <p:pic>
          <p:nvPicPr>
            <p:cNvPr id="2112" name="Овал 48" descr=""/>
            <p:cNvPicPr/>
            <p:nvPr/>
          </p:nvPicPr>
          <p:blipFill>
            <a:blip r:embed="rId9"/>
            <a:stretch/>
          </p:blipFill>
          <p:spPr>
            <a:xfrm>
              <a:off x="7338960" y="447984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"/>
            <p:cNvSpPr/>
            <p:nvPr/>
          </p:nvSpPr>
          <p:spPr>
            <a:xfrm>
              <a:off x="7426440" y="455616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Прямоугольник 49"/>
          <p:cNvSpPr/>
          <p:nvPr/>
        </p:nvSpPr>
        <p:spPr>
          <a:xfrm>
            <a:off x="4778280" y="505944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рты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Овал 50"/>
          <p:cNvGrpSpPr/>
          <p:nvPr/>
        </p:nvGrpSpPr>
        <p:grpSpPr>
          <a:xfrm>
            <a:off x="7338960" y="4992840"/>
            <a:ext cx="488880" cy="420480"/>
            <a:chOff x="7338960" y="4992840"/>
            <a:chExt cx="488880" cy="420480"/>
          </a:xfrm>
        </p:grpSpPr>
        <p:pic>
          <p:nvPicPr>
            <p:cNvPr id="2116" name="Овал 50" descr=""/>
            <p:cNvPicPr/>
            <p:nvPr/>
          </p:nvPicPr>
          <p:blipFill>
            <a:blip r:embed="rId10"/>
            <a:stretch/>
          </p:blipFill>
          <p:spPr>
            <a:xfrm>
              <a:off x="7338960" y="49928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"/>
            <p:cNvSpPr/>
            <p:nvPr/>
          </p:nvSpPr>
          <p:spPr>
            <a:xfrm>
              <a:off x="7426440" y="506880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Прямоугольник 51"/>
          <p:cNvSpPr/>
          <p:nvPr/>
        </p:nvSpPr>
        <p:spPr>
          <a:xfrm>
            <a:off x="4859280" y="55418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арас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Овал 52"/>
          <p:cNvGrpSpPr/>
          <p:nvPr/>
        </p:nvGrpSpPr>
        <p:grpSpPr>
          <a:xfrm>
            <a:off x="7338960" y="5473800"/>
            <a:ext cx="488880" cy="420480"/>
            <a:chOff x="7338960" y="5473800"/>
            <a:chExt cx="488880" cy="420480"/>
          </a:xfrm>
        </p:grpSpPr>
        <p:pic>
          <p:nvPicPr>
            <p:cNvPr id="2120" name="Овал 52" descr=""/>
            <p:cNvPicPr/>
            <p:nvPr/>
          </p:nvPicPr>
          <p:blipFill>
            <a:blip r:embed="rId11"/>
            <a:stretch/>
          </p:blipFill>
          <p:spPr>
            <a:xfrm>
              <a:off x="7338960" y="547380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7426440" y="554976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Прямоугольник 53"/>
          <p:cNvSpPr/>
          <p:nvPr/>
        </p:nvSpPr>
        <p:spPr>
          <a:xfrm>
            <a:off x="5587920" y="1900080"/>
            <a:ext cx="1660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аль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Овал 54"/>
          <p:cNvGrpSpPr/>
          <p:nvPr/>
        </p:nvGrpSpPr>
        <p:grpSpPr>
          <a:xfrm>
            <a:off x="7338960" y="1865160"/>
            <a:ext cx="488880" cy="420840"/>
            <a:chOff x="7338960" y="1865160"/>
            <a:chExt cx="488880" cy="420840"/>
          </a:xfrm>
        </p:grpSpPr>
        <p:pic>
          <p:nvPicPr>
            <p:cNvPr id="2124" name="Овал 54" descr=""/>
            <p:cNvPicPr/>
            <p:nvPr/>
          </p:nvPicPr>
          <p:blipFill>
            <a:blip r:embed="rId12"/>
            <a:stretch/>
          </p:blipFill>
          <p:spPr>
            <a:xfrm>
              <a:off x="7338960" y="186516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"/>
            <p:cNvSpPr/>
            <p:nvPr/>
          </p:nvSpPr>
          <p:spPr>
            <a:xfrm>
              <a:off x="7426440" y="194328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Прямоугольник 55"/>
          <p:cNvSpPr/>
          <p:nvPr/>
        </p:nvSpPr>
        <p:spPr>
          <a:xfrm>
            <a:off x="4152960" y="2273400"/>
            <a:ext cx="3117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Лениинский, Первомайский, Пролетарский рай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Овал 56"/>
          <p:cNvGrpSpPr/>
          <p:nvPr/>
        </p:nvGrpSpPr>
        <p:grpSpPr>
          <a:xfrm>
            <a:off x="7338960" y="2438280"/>
            <a:ext cx="488880" cy="420840"/>
            <a:chOff x="7338960" y="2438280"/>
            <a:chExt cx="488880" cy="420840"/>
          </a:xfrm>
        </p:grpSpPr>
        <p:pic>
          <p:nvPicPr>
            <p:cNvPr id="2128" name="Овал 56" descr=""/>
            <p:cNvPicPr/>
            <p:nvPr/>
          </p:nvPicPr>
          <p:blipFill>
            <a:blip r:embed="rId13"/>
            <a:stretch/>
          </p:blipFill>
          <p:spPr>
            <a:xfrm>
              <a:off x="7338960" y="243828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"/>
            <p:cNvSpPr/>
            <p:nvPr/>
          </p:nvSpPr>
          <p:spPr>
            <a:xfrm>
              <a:off x="7426440" y="2516040"/>
              <a:ext cx="311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Прямоугольник 57"/>
          <p:cNvSpPr/>
          <p:nvPr/>
        </p:nvSpPr>
        <p:spPr>
          <a:xfrm>
            <a:off x="5711760" y="3063960"/>
            <a:ext cx="153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Зв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Овал 58"/>
          <p:cNvGrpSpPr/>
          <p:nvPr/>
        </p:nvGrpSpPr>
        <p:grpSpPr>
          <a:xfrm>
            <a:off x="7338960" y="2975040"/>
            <a:ext cx="488880" cy="420480"/>
            <a:chOff x="7338960" y="2975040"/>
            <a:chExt cx="488880" cy="420480"/>
          </a:xfrm>
        </p:grpSpPr>
        <p:pic>
          <p:nvPicPr>
            <p:cNvPr id="2132" name="Овал 58" descr=""/>
            <p:cNvPicPr/>
            <p:nvPr/>
          </p:nvPicPr>
          <p:blipFill>
            <a:blip r:embed="rId14"/>
            <a:stretch/>
          </p:blipFill>
          <p:spPr>
            <a:xfrm>
              <a:off x="7338960" y="29750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7426440" y="305424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Прямоугольник 59"/>
          <p:cNvSpPr/>
          <p:nvPr/>
        </p:nvSpPr>
        <p:spPr>
          <a:xfrm>
            <a:off x="5210280" y="3449520"/>
            <a:ext cx="2038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Овал 60"/>
          <p:cNvGrpSpPr/>
          <p:nvPr/>
        </p:nvGrpSpPr>
        <p:grpSpPr>
          <a:xfrm>
            <a:off x="7334280" y="3438360"/>
            <a:ext cx="487440" cy="420840"/>
            <a:chOff x="7334280" y="3438360"/>
            <a:chExt cx="487440" cy="420840"/>
          </a:xfrm>
        </p:grpSpPr>
        <p:pic>
          <p:nvPicPr>
            <p:cNvPr id="2136" name="Овал 60" descr=""/>
            <p:cNvPicPr/>
            <p:nvPr/>
          </p:nvPicPr>
          <p:blipFill>
            <a:blip r:embed="rId15"/>
            <a:stretch/>
          </p:blipFill>
          <p:spPr>
            <a:xfrm>
              <a:off x="7334280" y="3438360"/>
              <a:ext cx="487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7" name=""/>
            <p:cNvSpPr/>
            <p:nvPr/>
          </p:nvSpPr>
          <p:spPr>
            <a:xfrm>
              <a:off x="7421400" y="3516480"/>
              <a:ext cx="311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Заголовок 3" descr=""/>
          <p:cNvPicPr/>
          <p:nvPr/>
        </p:nvPicPr>
        <p:blipFill>
          <a:blip r:embed="rId16"/>
          <a:stretch/>
        </p:blipFill>
        <p:spPr>
          <a:xfrm>
            <a:off x="1427040" y="4443480"/>
            <a:ext cx="3164040" cy="64620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оугольник 104"/>
          <p:cNvSpPr/>
          <p:nvPr/>
        </p:nvSpPr>
        <p:spPr>
          <a:xfrm>
            <a:off x="1376280" y="4940280"/>
            <a:ext cx="3267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зультаты ЕГЭ аннул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 итогам просмотра архива видеозапи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Номер слайда 3"/>
          <p:cNvSpPr/>
          <p:nvPr/>
        </p:nvSpPr>
        <p:spPr>
          <a:xfrm>
            <a:off x="8675640" y="5697360"/>
            <a:ext cx="46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DEA-D650-4F52-A058-FCBE0FDEDD91}" type="slidenum">
              <a:rPr b="0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8"/>
          <p:cNvSpPr/>
          <p:nvPr/>
        </p:nvSpPr>
        <p:spPr>
          <a:xfrm>
            <a:off x="184320" y="2202480"/>
            <a:ext cx="8635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ая информационная и разъяснительная работа с обучающимися и их родителями – желают изменить перечень предметов, не знают регламента проведения экзаменов  в форме ОГЭ и ГВЭ, не знают процедуры оформления апелля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трольность процесса проведения экзамена в ППЭ (нарушения организаторов,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исутствие учителей предмет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рганизация обучения выпускников: ознакомление с моделями экзаменов, изучение правил заполнения бланков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 http://fipi.ru/; oge-i-gve-9/g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аботников ППЭ, руководителей ППЭ,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 председателей и членов ТЭК, ТПК, 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4"/>
          <p:cNvSpPr/>
          <p:nvPr/>
        </p:nvSpPr>
        <p:spPr>
          <a:xfrm>
            <a:off x="1116000" y="1385640"/>
            <a:ext cx="783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блемы и вопросы, требующие особого внимания при организации подготовки к проведению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44" name="Picture 2" descr="http://cf.ppt-online.org/files/slide/e/egnR3fbJaZlNHrTdjwOo6IxhWYPGtz5ys8Eq19/slide-33.jpg"/>
          <p:cNvPicPr/>
          <p:nvPr/>
        </p:nvPicPr>
        <p:blipFill>
          <a:blip r:embed="rId1"/>
          <a:stretch/>
        </p:blipFill>
        <p:spPr>
          <a:xfrm>
            <a:off x="0" y="-457200"/>
            <a:ext cx="9685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ЕГЭ, ОГЭ -201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50920" y="1557360"/>
            <a:ext cx="86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олучить знания – дело долгое и трудное, а показать результаты своих достижений еще сложнее: как будет проходить ЕГЭ и ОГЭ в 2019 году и какие изменения в эти экзамены внесло Министерство образования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уть к достижению своих целей нелегок, и приходится с малых лет «бороться и искать». Первые школьники, имеющие опыт прохождения сдачи ЕГЭ и ОГЭ уже окончили ВУЗы и колледжи, а что предстоит сегодняшним будущим выпускникам школ, сколько предметов надо будет сдавать в 2019 году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Итоговое сочинени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287280" y="1268280"/>
            <a:ext cx="86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роводится в первую среду декабря, поэтому в 2018 году оно будет назначено на  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декабря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Любой ученик, не сдавший сочинение с первой попытки, может ее повторить, но в случае повторного провала придется отложить все экзамены на следующий год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явление на участие в ЕГЭ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февраля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ача заявления для участия в ГИА-9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марта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явление</a:t>
            </a: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Досрочный период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перио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езервные д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полнительный период (сентябрьские сроки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08000" y="297000"/>
            <a:ext cx="7956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Расписание экзаменов в 9 и 11 класса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ssandra"/>
              </a:rPr>
              <a:t>В 11 классе два обязательных экзамена: русский язык и математика 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900000" y="1160640"/>
            <a:ext cx="79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Математика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стобалльной систем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едметы по выбору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946" name="Рисунок 4" descr="http://steshka.ru/wp-content/uploads/2015/05/kartinki_shkola_deti_uchitelya_7.jpg"/>
          <p:cNvPicPr/>
          <p:nvPr/>
        </p:nvPicPr>
        <p:blipFill>
          <a:blip r:embed="rId1"/>
          <a:stretch/>
        </p:blipFill>
        <p:spPr>
          <a:xfrm>
            <a:off x="0" y="180828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ГИА - 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863640" y="119664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оличество экзаме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вятиклассники должны сдать четыре экзамена: </a:t>
            </a: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два обязательных экзамена по русскому языку и математик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и два обязательных экзамена по выбору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 числа учебных предметов: физика, химия, биология, литература, география, история, обществознание, иностранные языки, информатика и ИКТ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8-11-26T18:25:24Z</dcterms:modified>
  <cp:revision>66</cp:revision>
  <dc:subject/>
  <dc:title>Слайд 1</dc:title>
</cp:coreProperties>
</file>